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7DD-953F-4CF6-AF85-A6C1A11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927-DCD1-47E7-ADE0-34ABF068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E15-AB1D-4922-BB08-81E0E098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E47-C9B0-421A-9A90-F6BA1BD6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27E-E3F5-4973-9A7A-E96C4A3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3B2-192F-404B-BF9F-80092CB3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00E-801A-4A85-ADD0-367D2D09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780-8473-47F6-9FD3-046F0FD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9E9-417C-41EC-B8AC-7ACB92A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49C-D691-4EA5-9CD3-7FCDE55E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0E1-6C61-4A96-A213-35B5AEB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753-8CDA-43F7-BA02-763EB7C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9671D-74BA-4E82-B3E2-5DE687EC0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C48B2-4C49-4AAA-B4A4-6484EE97C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How do prokaryotic cells reproduce?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itosis produces 2 daughter cells which have the same number of chromosomes as the parent cell.  These daughter cells are body cells (like skin cells, muscle cells, and nerve cells)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ow many daughter cells does mitosis produce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f a human cell has 46 chromosomes before it divides, how many chromosomes will the daughter cells have after mitosi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type of cells does mitosis produce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alibri"/>
              </a:rPr>
              <a:t>The purpose of mitosis is to help an organism grow and develop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911760" y="4299120"/>
            <a:ext cx="52322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at is the function of mitosis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is produced by mitosi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s mitosis a type of cell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s mitosis a proces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is the purpose of mitosi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89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ow has 60 chromosomes.  A scientist observes a slime mold cell go through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daughter cells will the scientist s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did the parent cell ha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will a daughter cell hav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3.8 Independent Practice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nput – Notes on Mito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Guided Practice – Team work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ndependent Practice – Handou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After today you will be able to explain the outcome and purpose of mitosis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 u="sng">
                <a:solidFill>
                  <a:srgbClr val="000000"/>
                </a:solidFill>
                <a:uFillTx/>
                <a:latin typeface="Calibri"/>
              </a:rPr>
              <a:t>3.8 Mitosis Class Not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 chromosome is a tightly coiled piece of DNA which contains many gen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270480" y="38210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57200" y="4035600"/>
            <a:ext cx="32004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2640" y="1417680"/>
            <a:ext cx="68310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Calibri"/>
              </a:rPr>
              <a:t>In cell division, a cell’s chromosomes are copied and the cell divides into new cells which are called daughter cells. The original cell is called the parent cell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do we call a tightly coiled piece of DNA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Before a cell divides, what do we call the original cell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After a cell divides, what do we call the two new cells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19040" y="6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There are two types of cell division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Mitosi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Meiosis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59400" y="1795320"/>
            <a:ext cx="4010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54:56Z</dcterms:created>
  <dc:creator>Caroline Roth</dc:creator>
  <dc:description/>
  <dc:language>en-US</dc:language>
  <cp:lastModifiedBy>Caroline Roth</cp:lastModifiedBy>
  <dcterms:modified xsi:type="dcterms:W3CDTF">2010-10-28T11:31:27Z</dcterms:modified>
  <cp:revision>4</cp:revision>
  <dc:subject/>
  <dc:title>Bellringer</dc:title>
</cp:coreProperties>
</file>